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48.jpeg" ContentType="image/jpeg"/>
  <Override PartName="/ppt/media/image47.png" ContentType="image/png"/>
  <Override PartName="/ppt/media/image46.gif" ContentType="image/gif"/>
  <Override PartName="/ppt/media/image52.gif" ContentType="image/gif"/>
  <Override PartName="/ppt/media/image20.jpeg" ContentType="image/jpeg"/>
  <Override PartName="/ppt/media/image44.jpeg" ContentType="image/jpeg"/>
  <Override PartName="/ppt/media/image38.gif" ContentType="image/gif"/>
  <Override PartName="/ppt/media/image37.jpeg" ContentType="image/jpeg"/>
  <Override PartName="/ppt/media/image36.jpeg" ContentType="image/jpeg"/>
  <Override PartName="/ppt/media/image34.gif" ContentType="image/gif"/>
  <Override PartName="/ppt/media/image33.jpeg" ContentType="image/jpeg"/>
  <Override PartName="/ppt/media/image32.gif" ContentType="image/gif"/>
  <Override PartName="/ppt/media/image35.png" ContentType="image/png"/>
  <Override PartName="/ppt/media/image31.jpeg" ContentType="image/jpeg"/>
  <Override PartName="/ppt/media/image30.jpeg" ContentType="image/jpeg"/>
  <Override PartName="/ppt/media/image11.gif" ContentType="image/gif"/>
  <Override PartName="/ppt/media/image2.png" ContentType="image/png"/>
  <Override PartName="/ppt/media/image43.jpeg" ContentType="image/jpeg"/>
  <Override PartName="/ppt/media/image25.gif" ContentType="image/gif"/>
  <Override PartName="/ppt/media/image50.jpeg" ContentType="image/jpeg"/>
  <Override PartName="/ppt/media/image10.jpeg" ContentType="image/jpeg"/>
  <Override PartName="/ppt/media/image21.gif" ContentType="image/gif"/>
  <Override PartName="/ppt/media/image66.gif" ContentType="image/gif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2.png" ContentType="image/png"/>
  <Override PartName="/ppt/media/image69.gif" ContentType="image/gif"/>
  <Override PartName="/ppt/media/image16.jpeg" ContentType="image/jpeg"/>
  <Override PartName="/ppt/media/image39.gif" ContentType="image/gif"/>
  <Override PartName="/ppt/media/image84.png" ContentType="image/png"/>
  <Override PartName="/ppt/media/image79.jpeg" ContentType="image/jpeg"/>
  <Override PartName="/ppt/media/image14.jpeg" ContentType="image/jpeg"/>
  <Override PartName="/ppt/media/image7.gif" ContentType="image/gif"/>
  <Override PartName="/ppt/media/image19.gif" ContentType="image/gif"/>
  <Override PartName="/ppt/media/image24.jpeg" ContentType="image/jpeg"/>
  <Override PartName="/ppt/media/image27.gif" ContentType="image/gif"/>
  <Override PartName="/ppt/media/image83.jpeg" ContentType="image/jpeg"/>
  <Override PartName="/ppt/media/image64.png" ContentType="image/png"/>
  <Override PartName="/ppt/media/image77.jpeg" ContentType="image/jpeg"/>
  <Override PartName="/ppt/media/image65.gif" ContentType="image/gif"/>
  <Override PartName="/ppt/media/image70.png" ContentType="image/png"/>
  <Override PartName="/ppt/media/image78.gif" ContentType="image/gif"/>
  <Override PartName="/ppt/media/image29.jpeg" ContentType="image/jpeg"/>
  <Override PartName="/ppt/media/image12.jpeg" ContentType="image/jpeg"/>
  <Override PartName="/ppt/media/image61.png" ContentType="image/png"/>
  <Override PartName="/ppt/media/image74.gif" ContentType="image/gif"/>
  <Override PartName="/ppt/media/image67.png" ContentType="image/png"/>
  <Override PartName="/ppt/media/image73.gif" ContentType="image/gif"/>
  <Override PartName="/ppt/media/image71.png" ContentType="image/png"/>
  <Override PartName="/ppt/media/image68.jpeg" ContentType="image/jpeg"/>
  <Override PartName="/ppt/media/image76.gif" ContentType="image/gif"/>
  <Override PartName="/ppt/media/image22.gif" ContentType="image/gif"/>
  <Override PartName="/ppt/media/image9.jpeg" ContentType="image/jpeg"/>
  <Override PartName="/ppt/media/image23.gif" ContentType="image/gif"/>
  <Override PartName="/ppt/media/image49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81.png" ContentType="image/png"/>
  <Override PartName="/ppt/media/image41.gif" ContentType="image/gif"/>
  <Override PartName="/ppt/media/image7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26.jpeg" ContentType="image/jpeg"/>
  <Override PartName="/ppt/media/image28.gif" ContentType="image/gif"/>
  <Override PartName="/ppt/media/image59.jpeg" ContentType="image/jpeg"/>
  <Override PartName="/ppt/media/image80.gif" ContentType="image/gif"/>
  <Override PartName="/ppt/media/image15.gif" ContentType="image/gif"/>
  <Override PartName="/ppt/media/image6.png" ContentType="image/png"/>
  <Override PartName="/ppt/media/image17.gif" ContentType="image/gif"/>
  <Override PartName="/ppt/media/image82.gif" ContentType="image/gif"/>
  <Override PartName="/ppt/media/image8.png" ContentType="image/png"/>
  <Override PartName="/ppt/media/image45.gif" ContentType="image/gif"/>
  <Override PartName="/ppt/media/image5.png" ContentType="image/png"/>
  <Override PartName="/ppt/media/image4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D25-0F6E-422B-BE81-8545A3F9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70E-6CC7-49B7-8A46-AF8AB5B8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B8E-A720-48B4-A5CF-25859DD5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16F-1C5A-4757-A58A-00389939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C1A-36FB-4C60-B215-054F7A2F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F80F-83E8-4922-B5E6-FD8B340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509E-AD30-4647-9443-83EF8F3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0327-A067-4AE3-B433-9C18B66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5D38-DCA3-45D1-A280-A0EA990F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46DF-8F1D-4B58-ABB9-EC94982F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1DC-F298-4772-96E5-F345269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98B-720D-4AED-8734-8041CD41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5450-6214-4D84-9C31-8B17253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2D6-F5E6-4FD9-985F-B631C41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28CF-B686-4FD2-9CD1-9F55F8F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822E-A55C-4A59-9AAA-D2A939C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7D3-030D-4F36-B9C7-F21F6944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231-E30D-4B19-A455-9948AC0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A15-7EF4-4E03-A672-E79945E9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D77-4DEE-42FB-BB2D-642EF803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691-5FA4-45D9-8808-32AD8F4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0A9-07DE-4B1C-BA0B-47ECA4A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1E7-BC82-4F37-BC27-CEC573E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7E2-A46F-480F-94FA-2612759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93AC-8C5E-4ABE-94F8-5AFC900282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EAF-2B40-443E-9BA4-C2E2D97D6E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zon.ru/detail.cfm?ent=1&amp;id=2385" TargetMode="External"/><Relationship Id="rId3" Type="http://schemas.openxmlformats.org/officeDocument/2006/relationships/hyperlink" Target="http://www.ozon.ru/detail.cfm?ent=1&amp;id=10991" TargetMode="External"/><Relationship Id="rId4" Type="http://schemas.openxmlformats.org/officeDocument/2006/relationships/hyperlink" Target="http://www.ozon.ru/detail.cfm?ent=1&amp;id=5971" TargetMode="External"/><Relationship Id="rId5" Type="http://schemas.openxmlformats.org/officeDocument/2006/relationships/hyperlink" Target="http://www.ozon.ru/detail.cfm?ent=1&amp;id=27628" TargetMode="External"/><Relationship Id="rId6" Type="http://schemas.openxmlformats.org/officeDocument/2006/relationships/hyperlink" Target="http://www.ozon.ru/detail.cfm?ent=1&amp;id=27628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gif"/><Relationship Id="rId9" Type="http://schemas.openxmlformats.org/officeDocument/2006/relationships/image" Target="../media/image28.gif"/><Relationship Id="rId10" Type="http://schemas.openxmlformats.org/officeDocument/2006/relationships/image" Target="../media/image27.gif"/><Relationship Id="rId11" Type="http://schemas.openxmlformats.org/officeDocument/2006/relationships/image" Target="../media/image35.pn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.pn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hyperlink" Target="http://dtak.vecher.com/?sw=item&amp;id=325124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5.gif"/><Relationship Id="rId6" Type="http://schemas.openxmlformats.org/officeDocument/2006/relationships/image" Target="../media/image66.gi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0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5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8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2.png"/><Relationship Id="rId3" Type="http://schemas.openxmlformats.org/officeDocument/2006/relationships/image" Target="../media/image8.png"/><Relationship Id="rId4" Type="http://schemas.openxmlformats.org/officeDocument/2006/relationships/image" Target="../media/image73.gif"/><Relationship Id="rId5" Type="http://schemas.openxmlformats.org/officeDocument/2006/relationships/image" Target="../media/image74.gif"/><Relationship Id="rId6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75.jpeg"/><Relationship Id="rId4" Type="http://schemas.openxmlformats.org/officeDocument/2006/relationships/image" Target="../media/image76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5.jpe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77.jpeg"/><Relationship Id="rId4" Type="http://schemas.openxmlformats.org/officeDocument/2006/relationships/image" Target="../media/image78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image" Target="../media/image79.jpeg"/><Relationship Id="rId4" Type="http://schemas.openxmlformats.org/officeDocument/2006/relationships/image" Target="../media/image80.gif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2.gif"/><Relationship Id="rId10" Type="http://schemas.openxmlformats.org/officeDocument/2006/relationships/image" Target="../media/image32.gif"/><Relationship Id="rId1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3.jpeg"/><Relationship Id="rId3" Type="http://schemas.openxmlformats.org/officeDocument/2006/relationships/image" Target="../media/image84.pn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1280" y="981000"/>
            <a:ext cx="6265800" cy="376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87280" y="836640"/>
            <a:ext cx="54579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«Я Умирал 15 раз.»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9640" y="4149720"/>
            <a:ext cx="629604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мяти Леонида Филатов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09960" y="2411280"/>
            <a:ext cx="253368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ru-RU" sz="16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Филатов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везло: по окончании института он сразу попал на Таганку, Мекку богемы 70-х. </a:t>
            </a:r>
            <a:r>
              <a:rPr b="0" lang="ru-RU" sz="1600" spc="-1" strike="noStrike" u="sng">
                <a:solidFill>
                  <a:srgbClr val="c1c177"/>
                </a:solidFill>
                <a:uFillTx/>
                <a:latin typeface="Arial"/>
                <a:hlinkClick r:id="rId3"/>
              </a:rPr>
              <a:t>Вознесенс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джан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дро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c1c177"/>
                </a:solidFill>
                <a:uFillTx/>
                <a:latin typeface="Arial"/>
                <a:hlinkClick r:id="rId4"/>
              </a:rPr>
              <a:t>Шнит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 Они были не только зрители, но и друзья театра. Когда на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ем Любимов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гущались тучи, "гвардия" деятелей культуры шла на его защиту. А между тем ни один из них не мог не обратить внимания на молодую хорошенькую актрису </a:t>
            </a:r>
            <a:r>
              <a:rPr b="0" lang="ru-RU" sz="1600" spc="-1" strike="noStrike" u="sng">
                <a:solidFill>
                  <a:srgbClr val="c1c177"/>
                </a:solidFill>
                <a:uFillTx/>
                <a:latin typeface="Arial"/>
                <a:hlinkClick r:id="rId5"/>
              </a:rPr>
              <a:t>Нину </a:t>
            </a:r>
            <a:r>
              <a:rPr b="0" lang="ru-RU" sz="1600" spc="-1" strike="noStrike" u="sng">
                <a:solidFill>
                  <a:srgbClr val="c1c177"/>
                </a:solidFill>
                <a:uFillTx/>
                <a:latin typeface="Arial"/>
                <a:hlinkClick r:id="rId6"/>
              </a:rPr>
              <a:t>Шацку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на очаровывала всех, с ней стремились познакомиться, заговорить, взять за локоток... Без дурных намерений, разуме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5583240" y="3789360"/>
            <a:ext cx="2163600" cy="2852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556000" y="54291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6227640" y="26028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324000" y="77760"/>
            <a:ext cx="1944360" cy="162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4032000" y="1598760"/>
            <a:ext cx="3617640" cy="2171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Нина Шацкая"/>
          <p:cNvPicPr/>
          <p:nvPr/>
        </p:nvPicPr>
        <p:blipFill>
          <a:blip r:embed="rId12"/>
          <a:stretch/>
        </p:blipFill>
        <p:spPr>
          <a:xfrm>
            <a:off x="4211640" y="1413000"/>
            <a:ext cx="360036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У сына Дениса — три дочки. Значит, Филатов — трижды дед.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50" name="" descr="Фотография Леонид  Филатов"/>
          <p:cNvPicPr/>
          <p:nvPr/>
        </p:nvPicPr>
        <p:blipFill>
          <a:blip r:embed="rId1"/>
          <a:stretch/>
        </p:blipFill>
        <p:spPr>
          <a:xfrm>
            <a:off x="250920" y="1671480"/>
            <a:ext cx="7273800" cy="441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50920" y="5905440"/>
            <a:ext cx="7200720" cy="952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659640" y="117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54" name="" descr="Леонид Филатов"/>
          <p:cNvPicPr/>
          <p:nvPr/>
        </p:nvPicPr>
        <p:blipFill>
          <a:blip r:embed="rId1"/>
          <a:stretch/>
        </p:blipFill>
        <p:spPr>
          <a:xfrm>
            <a:off x="847800" y="1598760"/>
            <a:ext cx="199548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лучше представить Леонида Филатова? Актер? Безусловно: он сыграл главные роли во множестве спектаклей — от Шекспира до Булгакова — и в фильмах, ставших классикой советского кино. Писатель? Да — его сказку «Про Федота-стрельца, удалого молодца» до сих пор читают, слушают на кассетах и цитируют, он — автор более 13 книг. А может, телезвезда? С 1994 года Леонид Алексеевич вел на телеканале ОРТ передачу «Чтобы помнили…», удостоенную в 1996 году премии «ТЭФИ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6624360" cy="865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203640" y="5734080"/>
            <a:ext cx="3616200" cy="487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86000" y="1504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8456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Филатов - знаменитый «таганкинец», одно из лиц прославленного театра, единственной открытой сценической оппозиции режиму, Мекки столичной интеллигенции шестидесятых-семидесятых. Первой его работой стала роль Ведущего в постановке «Что делать?» по Чернышевскому, которая тут же сделала Филатову имя. Сам он называл Таганку своим университетом. Этапными ролями стали для него как «второплановые» Горацио в «Гамлете» и Федерциони в «Жизни Галилея», так и центральные работы в «Мастере и Маргарите» и «Доме на набережной». Каждая из этих ролей по-своему утверждала Филатова в образе человека, стоящего в стороне от других, отличающегося своей рефлективной, «интеллигентской» породой. Он играл в театре много, в восьмидесятых - когда Любимова сменил Эфрос - перешел в «Современник», а затем вернулся, сыграв, к примеру, в недооцененном, перестроечном уже «Пире во время чумы». Но не прижился и вместе с некоторыми соратниками основал в 1993-м «Содружество актеров Таганки». Впрочем, от политических конфликтов и яростного спора о расколе театра уже тогда он был далек. Его больше привлекала возможность писательского самовыра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40000" y="141300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Леонид Филатов"/>
          <p:cNvPicPr/>
          <p:nvPr/>
        </p:nvPicPr>
        <p:blipFill>
          <a:blip r:embed="rId3"/>
          <a:stretch/>
        </p:blipFill>
        <p:spPr>
          <a:xfrm>
            <a:off x="4211640" y="1628640"/>
            <a:ext cx="3463920" cy="482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692360" y="476280"/>
            <a:ext cx="4038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таганкинец»,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63160" y="1598760"/>
            <a:ext cx="36162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ой Филатов - дебютировавший в кино еще в 1970-м, но ставший народным любимцем, единолично сменившим советский героический типаж в первом отечественном фильме-катастрофе «Экипаж» (1980). Филатов снимался очень много, но, к сожалению, не так многочисленны были по-настоящему этапные его роли. Кроме летчика в «Экипаже», безусловно, «Избранные» Сергея Соловьева (1983), «Чичерин» Александра Зархи (1986) - кстати, принесший Филатову приз за лучшую мужскую роль в Карловых Варах, влюбленный чиновник в «Забытой мелодии для флейты» Эльдара Рязанова (1987), «кафкианский» путник в «Городе Зеро» Карена Шахназарова (1988). В следующую декаду Филатов вступил с собственным фильмом - ставшими причиной споров о праве актера на режиссерский почерк «Сукиными детьми» (1990). Среди любимых режиссеров он называл Тарковского и Фелли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Леонид Филатов"/>
          <p:cNvPicPr/>
          <p:nvPr/>
        </p:nvPicPr>
        <p:blipFill>
          <a:blip r:embed="rId3"/>
          <a:stretch/>
        </p:blipFill>
        <p:spPr>
          <a:xfrm>
            <a:off x="539640" y="1700280"/>
            <a:ext cx="3600720" cy="4465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7129440" cy="1224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468360" y="6496200"/>
            <a:ext cx="7128000" cy="123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395280" y="233280"/>
            <a:ext cx="7056360" cy="122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160" y="1341000"/>
            <a:ext cx="3616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ьм "Экипаж", в котором Леонид Филатов исполнил одну из главных ролей, был задуман режиссером А.Миттой и сценаристами Ю.Дунским и В.Фридом, как фильм-катастрофа. Тогда подобного рода проекты нужно было согласовывать в соответствующих министерствах и ведомствах, и в Министерстве гражданской авиации, проанализировав возможные последствия от показа крушения пассажирского лайнера, пришли к выводу, что, во-первых, самолет не должен разбиться из-за технической неисправности, во-вторых, летчики не должны быть виноваты, а в-третьих, на борту не должна взорваться бомба террориста… В общем, задача трудная, но создатели фильма вывернулись очень ловко - придумали землятресение и извержение вулкана. Самолет взлетает в труднейших условиях, получает серьезное повреждение, летчики проявляют чудеса мастерства, благополучно сажают самолет, спасают людей…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говорится, и волки сыты, и овцы целы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7505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ЬМ О БЛАГОПОЛУЧНОЙ КАТАСТРОФ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5" name="" descr="Экипаж (2 CD)"/>
          <p:cNvPicPr/>
          <p:nvPr/>
        </p:nvPicPr>
        <p:blipFill>
          <a:blip r:embed="rId4"/>
          <a:stretch/>
        </p:blipFill>
        <p:spPr>
          <a:xfrm>
            <a:off x="3924360" y="1941480"/>
            <a:ext cx="3384360" cy="3363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летчика Скворцова, эдакого советского Казановы, в фильме Александра Митты "Экипаж" принесла Леониду Филатову ошеломляющий успех. Позже, когда станет можно, именно за эту роль критики нарекут актера первым секс-символом нашего кино. А тогда, в 1979-м, Филатов, затмив своим мужским обаянием светлый образ честного партийца, определил нового героя того времени - настоящего мужчину, которому ничто человеческое не чуждо. Теперь иные времена и нравы иные. А уж герои...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284720" y="1773360"/>
            <a:ext cx="3016080" cy="4321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0" y="260280"/>
            <a:ext cx="7819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онид ФИЛАТОВ: "СЕГОДНЯ НЕТ ГЕРОЕВ"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Lucida Sans Unicode"/>
              </a:rPr>
              <a:t>Картина сложена из трёх новелл, связанных за кадром монологом главного героя. Борис, в прошлом футболист, рассказывает про трёх девушек по имени Женя - трёх любимых, в каждой из которых он искал мечту своего послевоенного детства...</a:t>
            </a:r>
            <a:r>
              <a:rPr b="1" lang="en-US" sz="2400" spc="-1" strike="noStrike">
                <a:solidFill>
                  <a:srgbClr val="ff9900"/>
                </a:solidFill>
                <a:latin typeface="Lucida Sans Unicode"/>
              </a:rPr>
              <a:t>.</a:t>
            </a:r>
            <a:br>
              <a:rPr sz="24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11640" y="162828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1557360"/>
            <a:ext cx="2808360" cy="4608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1187280" y="476280"/>
            <a:ext cx="557244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нщины шутят всерьез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2728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541440" y="1628640"/>
            <a:ext cx="851544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Забытая мелодия для флейты»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3280" y="3141720"/>
            <a:ext cx="2316240" cy="3240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1587600" cy="1656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147312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72007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66920" y="162828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, не лети так, жизнь!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иг, но задержись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 лучше ты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ечь, пытай и м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будет все: болезнь, тюрьма, несчастный случа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се перенес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не лети так, жизнь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Фотография Леонид  Филатов"/>
          <p:cNvPicPr/>
          <p:nvPr/>
        </p:nvPicPr>
        <p:blipFill>
          <a:blip r:embed="rId9"/>
          <a:stretch/>
        </p:blipFill>
        <p:spPr>
          <a:xfrm>
            <a:off x="312840" y="1916280"/>
            <a:ext cx="3217680" cy="396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403280" y="549360"/>
            <a:ext cx="4676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онид Филатов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05636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727236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16720" cy="6134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етий Филатов - писатель, драматург и поэт, человек, безусловно, с собственным и неповторимым почерком. «Мир - это театр», - по слухам, говорил Шекспир. Читая стихи Леонида Филатова, каждый может сказать: мир - это и поэзия» - так сказал об одном из первых его сборников Александр Володин. Филатов начинал как блистательный пародист, позже показал себя как незаурядный лирик и талантливый сценарист, но наибольшую знаменитость получил как драматург. Его оригинальные вариации на темы «Голого короля», «Робин Гуда», «Любви к трем апельсинам» и ряда шекспировских пьес остаются востребованными в репертуаре огромного числа театров. Однако подлинным шедевром Филатова стала абсолютно оригинальная сказка «Про Федота-стрельца, удалого молодца», созданная на основе русского фольклора, буквально расхватанная на цитаты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708000" y="169992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Леонид Филатов"/>
          <p:cNvPicPr/>
          <p:nvPr/>
        </p:nvPicPr>
        <p:blipFill>
          <a:blip r:embed="rId3"/>
          <a:stretch/>
        </p:blipFill>
        <p:spPr>
          <a:xfrm>
            <a:off x="3924360" y="1844640"/>
            <a:ext cx="3672000" cy="3960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627280" y="476280"/>
            <a:ext cx="445788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атов- писатель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4149720"/>
            <a:ext cx="7386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Свою сказку для театра «Про Федота – Стрельца» Леонид Филатов писал без малого 7 лет. Однажды, на съемках в Колумбии, к него выдался единственный выходной. Филатов даже не вышел на улицу, чтобы осмотреть красоты города. А когда вернулась съемочная группа, Филатов вышел к коллегам и с гордостью сообщил: «Три строфы написал к Федоту – Стрельцу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Эту сказку любят и дети, и взрослые. Первые – за то, что побеждает добро, вторые – за тонкий юмор и легкость сказ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Премьера в театре «Абориген» совпала с днями траура по Леониду Филатову"/>
          <p:cNvPicPr/>
          <p:nvPr/>
        </p:nvPicPr>
        <p:blipFill>
          <a:blip r:embed="rId4"/>
          <a:stretch/>
        </p:blipFill>
        <p:spPr>
          <a:xfrm>
            <a:off x="395280" y="333360"/>
            <a:ext cx="72010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95280" y="2349360"/>
            <a:ext cx="3240000" cy="4248360"/>
            <a:chOff x="395280" y="2349360"/>
            <a:chExt cx="3240000" cy="424836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3240000" cy="42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 txBox="1"/>
            <p:nvPr/>
          </p:nvSpPr>
          <p:spPr>
            <a:xfrm>
              <a:off x="395280" y="2349360"/>
              <a:ext cx="3240000" cy="424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718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1990 года выходят в свет книги Л. Филатова "Про Федота-стрельца удалого молодца", "Большая любовь Робина Гуда", "Любовь к трем апельсинам", "Лизистрата", "Театр Леонида Филатова","Я-человек театральный", "Сукины дети" и многие другие. В 1998 г. Л.А.Филатову присуждена годовая премия литературного журнала "Октябрь" за комедию "Лизистрат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Лизистрата. Пьесы, песни и зонги, пародии, стихотворения"/>
          <p:cNvPicPr/>
          <p:nvPr/>
        </p:nvPicPr>
        <p:blipFill>
          <a:blip r:embed="rId4"/>
          <a:stretch/>
        </p:blipFill>
        <p:spPr>
          <a:xfrm>
            <a:off x="5435640" y="213372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4211640" y="2060640"/>
            <a:ext cx="338472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Леонид Филатов "благословил" Сергея Безрукова читать "Федота-стрельца"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21715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Сергей Безруков (слева) и Леонид Филатов представляют 'Любовь к трем апельсинам'. Фото с сайта www.rol.ru"/>
          <p:cNvPicPr/>
          <p:nvPr/>
        </p:nvPicPr>
        <p:blipFill>
          <a:blip r:embed="rId2"/>
          <a:stretch/>
        </p:blipFill>
        <p:spPr>
          <a:xfrm>
            <a:off x="755640" y="1916280"/>
            <a:ext cx="6408720" cy="4681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атр на Таганке всегда существовал в атмосфере творческого взрыва. Актеры не только играли в спектаклях, но и творили сами. Владимир Высоцкий - песни. Вениамин Смехов - сказки. Леонид Филатов - стихи, пьесы, сценарии... "Театр Леонида Филатова" - это мир творчества прекрасного артиста, поэта, драматурга. Этот мир - для в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Театр Леонида Филатова"/>
          <p:cNvPicPr/>
          <p:nvPr/>
        </p:nvPicPr>
        <p:blipFill>
          <a:blip r:embed="rId2"/>
          <a:stretch/>
        </p:blipFill>
        <p:spPr>
          <a:xfrm>
            <a:off x="4140360" y="1628640"/>
            <a:ext cx="3116160" cy="4537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1116000" y="404640"/>
            <a:ext cx="606744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атр Леонида Филатова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0" y="290520"/>
            <a:ext cx="727200" cy="538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684360" y="6330960"/>
            <a:ext cx="6624360" cy="19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Они - всякие. Добрые и злые, чуткие и жестокие, способные самозабвенно любить и в то же время предать. Они - артисты, `сукины дети`. Фильм, снятый по этой повести самим же автором, был посвящен легендарному Театру на Таганке и мел огромный успех. В эту книгу входит еще одна великолепная киноповесть Л.Филатова - `Свобода или смер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`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Сукины дети"/>
          <p:cNvPicPr/>
          <p:nvPr/>
        </p:nvPicPr>
        <p:blipFill>
          <a:blip r:embed="rId2"/>
          <a:stretch/>
        </p:blipFill>
        <p:spPr>
          <a:xfrm>
            <a:off x="6300720" y="0"/>
            <a:ext cx="1441440" cy="1628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332000" y="260280"/>
            <a:ext cx="329544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кины дети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2" name="" descr="Леонид Алексеевич Филатов: фотография 1"/>
          <p:cNvPicPr/>
          <p:nvPr/>
        </p:nvPicPr>
        <p:blipFill>
          <a:blip r:embed="rId3"/>
          <a:stretch/>
        </p:blipFill>
        <p:spPr>
          <a:xfrm>
            <a:off x="395280" y="1916280"/>
            <a:ext cx="3384720" cy="439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140360" y="6093000"/>
            <a:ext cx="3429000" cy="288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0" y="152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4572000" y="1872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3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эту книгу вошли стихотворения Леонида Филатова, написанные им в разные годы, блистательные и меткие пародии, всеми любимый "Федот" и последняя пьеса - "Лизистр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500720" y="1598760"/>
            <a:ext cx="3238200" cy="4566960"/>
            <a:chOff x="4500720" y="1598760"/>
            <a:chExt cx="3238200" cy="456696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500720" y="1598760"/>
              <a:ext cx="3238200" cy="45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 txBox="1"/>
            <p:nvPr/>
          </p:nvSpPr>
          <p:spPr>
            <a:xfrm>
              <a:off x="4500720" y="1598760"/>
              <a:ext cx="3238200" cy="456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1403280" y="260280"/>
            <a:ext cx="5543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ельсины цвета беж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-396720" y="-316080"/>
            <a:ext cx="1979280" cy="1979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684360" y="5950080"/>
            <a:ext cx="3429000" cy="295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95640" y="162828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125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5331e"/>
                </a:solidFill>
                <a:latin typeface="Copperplate Gothic Bold"/>
              </a:rPr>
              <a:t>Леонид Алексеевич Филатов родился 24 декабря 1946 года в городе Казани в семье геолога. Семья часто переезжала: отец, Алексей Еремеевич, был радистом, все время в экспедициях. Когда мальчику исполнилось семь лет, родители развелись, и мама, Клавдия Николаевна, с сыном уехали в Ашхабад, где и прошли его детство и юность. Учась в школе, он участвовал в школьном драмкружке, начал печататься в прессе, тогда ж появились и первые стихи, поразившие многих глубиной и зрелостью мысли, хотя автору в ту пору было всего 16 лет. Вообще же, о годах, проведенных в Туркменистане, Леонид всегда вспоминал с большой теплотой. "Родной Ашхабад... Прекрасное было время: детство, юность, первая любовь, первые стихи. - вспоминает Леонид. - Иногда я закрываю глаза и начинаю путешествовать по ашхабадским улицам, ведь когда-то я знал их наизусть, а сколько раз исходил город из конца в конец - и не сосчитать".</a:t>
            </a:r>
            <a:r>
              <a:rPr b="1" lang="ru-RU" sz="500" spc="-1" strike="noStrike">
                <a:solidFill>
                  <a:srgbClr val="15331e"/>
                </a:solidFill>
                <a:latin typeface="Monotype Corsiv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58840" y="1700280"/>
            <a:ext cx="4025880" cy="489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9640" y="642960"/>
            <a:ext cx="6193080" cy="274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 Black"/>
              </a:rPr>
              <a:t>Как назвать человека, совмещающего в одном лице актера, поэта, драматурга, режиссера, телеведущего? А еще и автора талантливых пародий, блистательных сказок в стихах, современной жесткой прозы? Да и собственная жизнь Леонида Филатова тоже напоминает сказку - притчу о стойком оловянном солдатике, чьим единственным оружием является обнаженная совесть. В этот сборник наряду с известными стихотворениями вошла киноповесть Л. Филатова `Свобода или смерть`, сенсационные интервью, в том числе интервью… в стихах…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Нет худа без добра"/>
          <p:cNvPicPr/>
          <p:nvPr/>
        </p:nvPicPr>
        <p:blipFill>
          <a:blip r:embed="rId2"/>
          <a:stretch/>
        </p:blipFill>
        <p:spPr>
          <a:xfrm>
            <a:off x="507960" y="1700280"/>
            <a:ext cx="1801800" cy="2520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1258920" y="333360"/>
            <a:ext cx="55148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т худа без добра 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8" name="" descr="Леонид Алексеевич Филатов: фотография 1"/>
          <p:cNvPicPr/>
          <p:nvPr/>
        </p:nvPicPr>
        <p:blipFill>
          <a:blip r:embed="rId5"/>
          <a:stretch/>
        </p:blipFill>
        <p:spPr>
          <a:xfrm>
            <a:off x="468360" y="1700280"/>
            <a:ext cx="3598920" cy="4681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6012000" y="-17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2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лось все с метких, остроумных эпиграмм и пародий. И вышло так, что наши любимые артисты Леонид Филатов и Валентин Гафт стали Поэтами. Интересными, самобытными, но в чем-то и похожими. Наверное, в ощущении себя, как говорит Филатов, "персонажами диковинной пьесы...". В результате и получился этот сборник - своеобразная пьеса, в которой первый акт играет поэт Леонид Филатов, а второй - поэт Валентин Гафт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067280" y="1628640"/>
            <a:ext cx="3643200" cy="4248360"/>
            <a:chOff x="4067280" y="1628640"/>
            <a:chExt cx="3643200" cy="424836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4067280" y="1628640"/>
              <a:ext cx="3643200" cy="42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 txBox="1"/>
            <p:nvPr/>
          </p:nvSpPr>
          <p:spPr>
            <a:xfrm>
              <a:off x="4067280" y="1628640"/>
              <a:ext cx="3643200" cy="424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1763640" y="404640"/>
            <a:ext cx="416232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изнь - Театр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6372360" y="26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611280" y="5950080"/>
            <a:ext cx="3429000" cy="22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ер легендарной Таганки ворвался в кино на бешеной скорости, в составе "Экипажа" Александра Митты. Летчик Скворцов - это была не просто роль: его внешнему облику стали подражать, его поведение оправдывать, а женская половина всего Советского Союза влюбилась в героя и актера всерьез и надолго. Но самое интересное, что Леонид Филатов и актером становиться не собирался, и сколько-нибудь привлекательным себя никогда не считал. Потом в его жизни случилась болезнь, которую долго не могли распознать. Она отняла у него и профессию актера, и профессию режиссера. Но он не сдавал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Фотография Леонид  Филатов"/>
          <p:cNvPicPr/>
          <p:nvPr/>
        </p:nvPicPr>
        <p:blipFill>
          <a:blip r:embed="rId3"/>
          <a:stretch/>
        </p:blipFill>
        <p:spPr>
          <a:xfrm>
            <a:off x="4130640" y="1413000"/>
            <a:ext cx="3394080" cy="4752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971640" y="404640"/>
            <a:ext cx="6210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отяжении последних лет Леонид Филатов вел на ОРТ программу "Чтобы помнили" о незаслуженно забытых актерах прошлого. За все время существования программы эфир, несмотря на тяжелую болезнь ведущего, не был сорван ни р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Фотография Леонид  Филатов"/>
          <p:cNvPicPr/>
          <p:nvPr/>
        </p:nvPicPr>
        <p:blipFill>
          <a:blip r:embed="rId2"/>
          <a:stretch/>
        </p:blipFill>
        <p:spPr>
          <a:xfrm>
            <a:off x="4140360" y="1484280"/>
            <a:ext cx="2925720" cy="4681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692360" y="476280"/>
            <a:ext cx="465768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Чтобы помнили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116000" y="6227640"/>
            <a:ext cx="5472000" cy="438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  <p:set>
                                      <p:cBhvr>
                                        <p:cTn id="71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16 октября Филатова доставили в реанимационное отделение ЦКБ с двусторонним воспалением легких. Уже тогда было ясно, что ослабленному долгой болезнью почек организму Филатова будет тяжело справиться с новой угрозой. Тем не менее россияне, искренне любившие этого замечательного актера, не переставали верить в чудо. В эти тревожные для семьи и друзей Леонида Филатова дни тысячи писем и телеграмм приходили в больницу, на Интернет-сайт Филатова, в его театр Содружество актеров Таганки. К сожалению, чудес не бывает. На 57-м году жизни Леонида Филатова не стало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16556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1403280" y="404640"/>
            <a:ext cx="5981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стало Леонида Филатова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771640" y="55990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1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  <p:set>
                                      <p:cBhvr>
                                        <p:cTn id="75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фоне разгорающихся политических интриг и скандалов как-то незаметно ушёл из жизни прекрасный человек, талантливейший русский актёр, режиссёр и писатель Леонид Филатов. 10 дней врачи боролись за его жизнь, но все усилия оказались тщетны – воскресным вечером сердце Леонида Филатова остановилось… было ему 57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Фотография Леонид  Филатов"/>
          <p:cNvPicPr/>
          <p:nvPr/>
        </p:nvPicPr>
        <p:blipFill>
          <a:blip r:embed="rId3"/>
          <a:stretch/>
        </p:blipFill>
        <p:spPr>
          <a:xfrm>
            <a:off x="395280" y="1125360"/>
            <a:ext cx="3448080" cy="4824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2411280" y="333360"/>
            <a:ext cx="4124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онид Филатов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  <p:set>
                                      <p:cBhvr>
                                        <p:cTn id="77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263520" y="119664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поклониться актеру, люди занимали очередь с девяти утра. А к 12.30 — времени начала гражданской панихиды — образовали плотное кольцо вокруг Дома кино. В одной очереди стояли и актеры, близко знавшие Леонида Алексеевича, и те, кто любил его по эту сторону экра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Сцена была для него всем. Она стала и местом прощания — сцена Дома кино, где установили гроб с телом покойного актера. Возложив цветы и сказав последние слова Филатову, люди занимали места в зрительном зале. Чтобы вновь увидеть его, молодого, здорового. Улыбающегося с траурного портрет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63520" y="3922200"/>
            <a:ext cx="7386480" cy="2173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4537080" cy="25905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619280" y="260280"/>
            <a:ext cx="438156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Прощай, артист... 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6054840" y="3933720"/>
            <a:ext cx="900000" cy="2374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Фотография Леонид  Филатов"/>
          <p:cNvPicPr/>
          <p:nvPr/>
        </p:nvPicPr>
        <p:blipFill>
          <a:blip r:embed="rId5"/>
          <a:stretch/>
        </p:blipFill>
        <p:spPr>
          <a:xfrm>
            <a:off x="6370560" y="0"/>
            <a:ext cx="803520" cy="1125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63520" y="1598760"/>
            <a:ext cx="3616200" cy="4497120"/>
            <a:chOff x="263520" y="1598760"/>
            <a:chExt cx="3616200" cy="449712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263520" y="1598760"/>
              <a:ext cx="361620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 txBox="1"/>
            <p:nvPr/>
          </p:nvSpPr>
          <p:spPr>
            <a:xfrm>
              <a:off x="263520" y="1598760"/>
              <a:ext cx="361620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ейшая забота для творца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заиграться в роли до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ублика — хоть расшибись в лепешку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уважает гибель понаро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можешь довести толпу до сл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шь в случае, когда умрешь всерь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9"/>
          <a:stretch/>
        </p:blipFill>
        <p:spPr>
          <a:xfrm>
            <a:off x="250920" y="549360"/>
            <a:ext cx="7273800" cy="476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0"/>
          <a:stretch/>
        </p:blipFill>
        <p:spPr>
          <a:xfrm>
            <a:off x="6443640" y="6021360"/>
            <a:ext cx="644400" cy="644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58f7d"/>
                                      </p:to>
                                    </p:animClr>
                                    <p:set>
                                      <p:cBhvr>
                                        <p:cTn id="85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ускается вече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нежный вечер и бледный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й снег скоротечен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й снег – не последний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последний настырен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дний гость в ресторан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й снег в этом мире -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ремя жизни на грани..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свете уличном тусклом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 неслышное пенье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вальсе медленном, грустном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ьются ангелов перья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, конечно, растает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, конечно, не вечен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ему тайно ставят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таянья свечи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тебе снежной ранью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ла флейтою птица..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ет в окне – умиранье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й снег - плащан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3978000" cy="25621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324000" y="260280"/>
            <a:ext cx="7381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ья ангелов (Леониду Филатову)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860640"/>
            <a:ext cx="32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гей Соколов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87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Фотография Леонид  Филатов"/>
          <p:cNvPicPr/>
          <p:nvPr/>
        </p:nvPicPr>
        <p:blipFill>
          <a:blip r:embed="rId1"/>
          <a:stretch/>
        </p:blipFill>
        <p:spPr>
          <a:xfrm>
            <a:off x="324000" y="1700280"/>
            <a:ext cx="1949400" cy="2849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Фотография Леонид  Филатов"/>
          <p:cNvPicPr/>
          <p:nvPr/>
        </p:nvPicPr>
        <p:blipFill>
          <a:blip r:embed="rId2"/>
          <a:stretch/>
        </p:blipFill>
        <p:spPr>
          <a:xfrm>
            <a:off x="5148360" y="3429000"/>
            <a:ext cx="2282760" cy="3160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Фотография Леонид  Филатов"/>
          <p:cNvPicPr/>
          <p:nvPr/>
        </p:nvPicPr>
        <p:blipFill>
          <a:blip r:embed="rId3"/>
          <a:stretch/>
        </p:blipFill>
        <p:spPr>
          <a:xfrm>
            <a:off x="2268360" y="2924280"/>
            <a:ext cx="2808360" cy="2809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2556000" y="981000"/>
            <a:ext cx="4733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з семейного альбом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68360" y="530064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1965 году, после окончания школы, буквально сразу же после выпускного бала Филатов отправился в Москву, поступать во ВГИК на режиссёра. "Все это было от провинциальной наглости, а не от уверенности в собственных силах, -вспоминал он потом. - Я понял, как огромна Москва и как в ней много таких "гавриков", как я. Выяснилось, что во ВГИКЕ меня никто не ждет". Потерпев неудачу, он не сложил руки, а по совету своего одноклассника, успешно прошёл экзаменационное сито на актерский факультет Щукинского училищ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Фотография Леонид  Филатов"/>
          <p:cNvPicPr/>
          <p:nvPr/>
        </p:nvPicPr>
        <p:blipFill>
          <a:blip r:embed="rId2"/>
          <a:stretch/>
        </p:blipFill>
        <p:spPr>
          <a:xfrm>
            <a:off x="4448160" y="1484280"/>
            <a:ext cx="3003480" cy="4824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55520" y="46080"/>
            <a:ext cx="476244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55520" y="46080"/>
            <a:ext cx="476244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55640" y="692280"/>
            <a:ext cx="4762440" cy="22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95280" y="765000"/>
            <a:ext cx="7129440" cy="316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и все молодые люди, студенты актерских училищ очень любили различные розыгрыши. Об одном из них вспоминает Леонид Филатов: "Мы зашли на женский этаж, связали ручки дверей, расположенных друг против друга, постучали и, отбежав, стали наблюдать, как девчонки подняли страшный визг. Хохоча, мы убрались к себе, а уже утром предстали перед студсоветом. Каким-то образом нас вычислили. Или просто продал кто? Потом выяснилось, что в одной из комнат жила болгарка, причем беременная. Нас выгнали из общежития, и одно время мы обосновались на улице Герцена, в бывшей конюшне. Это было жилье на троих: Вовка Качан, Борька Галкин и я.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87640" y="476280"/>
            <a:ext cx="2152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ШУТИЛ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" descr="Фотография Леонид  Филатов"/>
          <p:cNvPicPr/>
          <p:nvPr/>
        </p:nvPicPr>
        <p:blipFill>
          <a:blip r:embed="rId2"/>
          <a:stretch/>
        </p:blipFill>
        <p:spPr>
          <a:xfrm>
            <a:off x="60480" y="1557360"/>
            <a:ext cx="3647880" cy="504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940360" y="5734080"/>
            <a:ext cx="1104840" cy="895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395280" y="62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659640" y="333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онид Филатов с детства любил писать. В театральном училище он писал пьесы из западной жизни, а подписывался псевдонимами Чезаре Джаватини, Ля Биш... Однажды он написал пьесу "Процесс", а имя  поставил - Артур Миллер. И вот на занятиях по мастерству, которое вел ректор Борис Захава, "Процесс" получает все плюсы, и он говорит: "Вот видите, когда берете высокую драматургию, все получается хорошо". На что Борис Галкин выкрикнул: "А это Леня Филатов написал!" Борис Евгеньевич побагровел - и перестал общаться с Филатовым. Проходил мимо, как крейсер, не заме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459400" y="23036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411280" y="260280"/>
            <a:ext cx="47721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СОКАЯ ДРАМАТУРГИ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3489120" cy="4321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40000" cy="1655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24000" y="6095880"/>
            <a:ext cx="1223640" cy="762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411280" y="333360"/>
            <a:ext cx="5399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этого была работа в театре на "Таганке", куда Филатов был принят и признан безоговорочно с первой же работы. "Таганка" была для меня самым счастливым местом во всей нашей несчастной стране. Здесь вблизи видел замечательные образцы человеческой отваги, хотя 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е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ко сталкивался и с человеческой трусостью. Именно в этом доме я научился жалеть и прощать... Другое дело, что в пору юности я наивно думал, что и весь окружающий меня мир так же нормален и прекрасен, как "Таганка", вспоминал впоследствии Филатов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Фотография Леонид  Филатов"/>
          <p:cNvPicPr/>
          <p:nvPr/>
        </p:nvPicPr>
        <p:blipFill>
          <a:blip r:embed="rId2"/>
          <a:stretch/>
        </p:blipFill>
        <p:spPr>
          <a:xfrm>
            <a:off x="0" y="404640"/>
            <a:ext cx="2800440" cy="2737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1513080" cy="1436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732720" y="0"/>
            <a:ext cx="934920" cy="1195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605a"/>
                </a:solidFill>
                <a:latin typeface="Arial"/>
              </a:rPr>
              <a:t>Леонид Филатов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0605a"/>
                </a:solidFill>
                <a:latin typeface="Arial"/>
              </a:rPr>
              <a:t>был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0605a"/>
                </a:solidFill>
                <a:latin typeface="Arial"/>
              </a:rPr>
              <a:t>женат</a:t>
            </a: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0605a"/>
                </a:solidFill>
                <a:latin typeface="Arial"/>
              </a:rPr>
              <a:t>   на актрисе «Содружества актеров Таганки» Нине Шацкой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5" name="" descr="Фотография Леонид  Филатов"/>
          <p:cNvPicPr/>
          <p:nvPr/>
        </p:nvPicPr>
        <p:blipFill>
          <a:blip r:embed="rId1"/>
          <a:stretch/>
        </p:blipFill>
        <p:spPr>
          <a:xfrm>
            <a:off x="277920" y="1628640"/>
            <a:ext cx="3362040" cy="4969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Фотография Леонид  Филатов"/>
          <p:cNvPicPr/>
          <p:nvPr/>
        </p:nvPicPr>
        <p:blipFill>
          <a:blip r:embed="rId2"/>
          <a:stretch/>
        </p:blipFill>
        <p:spPr>
          <a:xfrm>
            <a:off x="4643280" y="1628640"/>
            <a:ext cx="3024360" cy="236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Фотография Леонид  Филатов"/>
          <p:cNvPicPr/>
          <p:nvPr/>
        </p:nvPicPr>
        <p:blipFill>
          <a:blip r:embed="rId3"/>
          <a:stretch/>
        </p:blipFill>
        <p:spPr>
          <a:xfrm>
            <a:off x="3780000" y="4005360"/>
            <a:ext cx="3887640" cy="2566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97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7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067280" y="2492280"/>
            <a:ext cx="428400" cy="42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1:24:13Z</dcterms:created>
  <dc:creator>Library User 04</dc:creator>
  <dc:description/>
  <dc:language>en-US</dc:language>
  <cp:lastModifiedBy>Library User 01</cp:lastModifiedBy>
  <dcterms:modified xsi:type="dcterms:W3CDTF">2005-05-03T07:28:02Z</dcterms:modified>
  <cp:revision>212</cp:revision>
  <dc:subject/>
  <dc:title>Слайд 1</dc:title>
</cp:coreProperties>
</file>